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DA8-5913-4C2C-A62B-2A2FBDDA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453-CCEC-411F-9A68-3FB4F86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0BB-FE71-4748-A1BE-18AC6D35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EE5-E1AD-4D1A-AED9-4890F57E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B80-C34D-4698-A7E8-C9B50002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7A6-1E66-4344-9E9A-7D535E7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4AE-D492-4A62-A896-0B926EB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7F82-72FA-4306-A71E-AFFE5DC9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D0B-73D1-4AA4-A390-579ECF2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EA43-91A3-4E5E-8F88-25907D7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7974-75AD-4390-8CB5-7888349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B5B-8555-42D4-B637-1584D7C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EF0-F645-41DA-AAB4-F2069E2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CB0F-1981-4EBB-AD60-EDE4C7C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ED9B-2931-40BB-95F2-ECCAEE9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30A3-2509-4AFD-9E33-19E23072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EE0-A69A-4E3C-8B3D-C420CAAF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4EC-164C-4648-B949-E9515D4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700-143C-4433-888A-1F75C8A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107-6C73-4D02-9D80-FE614CC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DBE-2E8D-4AEF-8130-0DA545F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D4A-1A0D-478F-B477-00C6CAB5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CBE-BFDE-4654-9B82-D08FAF9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CA1-7E0C-435E-A78B-E80ADD4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07A-2DC6-49EB-B895-1BBDBA542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EAF-32CE-4D3A-B79F-AB296BD16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NERJİ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   VE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    ÇEŞİTLERİ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ndaki fotoğ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otoğrafta gü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eşin ısısın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rarlanmak 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in panell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lmuşu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KTRİK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enerji türü karanlık bir odayı aydınlata bilecek bir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mür,petrol doğal gaz gibi yakıtların yakılmasıyla ısı enerjisi ortaya çıkmakta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e edilen ısı enerjisi ilk önce türbinler yardımıyla mekanik enerjiye,daha sonrada jeneratörler yardımıyla elektr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erjisine dönüştürül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vlerimizde kışın ısınmak,mutfak ve banyoda sıcak su elde ederiz.Yemek pişirmek için sıkça faydalın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ektrik yünlemesi sebebiyle ortaya çıkan enerji türüd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lenmiş partiküllerin hareket enerjis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ÜKLEER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isyon veya fizyon sonucu meydana ge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ükleer santrellerden bu şekilde elde ed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ndaki resi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 su enerjis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in gelgit olayı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an yararlanıl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ıştır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erji kısaca iş yapabilme yeteneğidir. Tıpkı uzunluklar gibi skaler büyüklüktür. Toplamda 8 ana enerji çeşidi vardır. Bunlar potansiyel, kinetik, ısı, ışık, elektrik, kimyasal, nükleer ve ses enerjisidir. Unutmamamız gereken ise hiçbir enerjinin kaybolmadığıdır. Olsa olsa başka bir enerji türü olmuş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S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n enerjisi olduğunu nasıl anlayabiliriz?Şu şekilde açıklanab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ın kırılması.Hani o yüksek şiddetteki çığlıkların kırdığı camları anımsamayı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lar sesin enerjisi yüzünden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lin kinetik enerjisi ses ve biraz ısı enerjisine dönüş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AD=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FERİD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SOYAD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AS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0KUL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RESSAM ŞEVKET D.İ.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SINIF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7/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ANSİYEL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cismin konumu ve durumu ile ship olduğu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rilmiş,bir yayda havada duran bir cisimde ve iple tavandan asılı bir modelde potansiyel enerji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ısaca yüksekliği olan yada gerilmiş/sıkıştırmış tüm cisimlerde potansiyel enerji mevcut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ER ÇEKİMİ POTANSİYEL ENERJ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 kütle bulunduğu yerden düşey konumdaki alt bir noktaya göre yüksekte ise, sahip olduğu enerjiye yer çekimi potansiyel enerji de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İNETİK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k enerjiye sahip olmak için bir cismin hareket ediyor olması lazı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ni kinetik enerji hızı olan enerji çeşid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lara örnek olarak;koşan çocuk,giden araba,topa vuran çocuk vb. şeyler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I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simlerin sıcaklık yönünden sahip oldukları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caklığı yüksek yada düşük bütün maddeleri ısı enerjisi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rnek verecek olursak;ampul,elektrik sobası,jeotermal enerji,ısıtıcı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56:31Z</dcterms:created>
  <dc:creator>FeRiDuN aSlAn</dc:creator>
  <dc:description/>
  <dc:language>en-US</dc:language>
  <cp:lastModifiedBy>f.aslan</cp:lastModifiedBy>
  <dcterms:modified xsi:type="dcterms:W3CDTF">2011-01-13T05:3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